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968-C6D3-4100-ADF2-8D38DF97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0EC-9D55-438A-875A-3E95A6BC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7FB-CCA2-441A-B3B2-182BE9CF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E22-20F7-49A8-91F7-2D36E9A3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3FF3-39EB-47F6-AA34-0FB4165C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D01B-4155-4DA5-BA1A-7BDF7AB5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AE21-CF03-4C4C-8F55-9B385CD7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53AE-E52E-4221-8582-C18CAE18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72F7-1821-468D-9D7A-A8E1974F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12BF-6DC9-403E-8464-2B0D0DB3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F375-6DFE-4686-AD69-8F153556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971-8011-4B3B-A2C7-18B6EADE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754E-8A70-4A03-9DFF-36E8D746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6752-B931-4CAE-861F-A2505B3A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CF6F-9F1C-4121-B536-7C1D6F77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C1C3-3F10-4A6A-9960-E4F6C913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A6A4-F6FB-49AA-828E-4EBCBB69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DA3-867D-49C5-899D-B5901371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7054-627E-4148-9085-954F07E4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8E2-84C5-458D-8DAA-2B7C5635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584-9107-4389-9A35-E8B038F2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169-D3D2-458A-8292-2BCC9778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FB1-6567-4D30-A27F-BC73CD67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B40-FD56-4287-8A24-0BE8F6AE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cd5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cd5f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9C47-EAEF-4A97-8E28-B83F82B88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12F6-EC6D-4526-B3AB-469FAC964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d5f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cd5f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d5f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cd5f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The Book of Hosea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d5f4"/>
                </a:solidFill>
                <a:latin typeface="Arial"/>
              </a:rPr>
              <a:t>Quarter 7, Lesson 4</a:t>
            </a:r>
            <a:endParaRPr b="0" lang="en-US" sz="3200" spc="-1" strike="noStrike">
              <a:solidFill>
                <a:srgbClr val="9cd5f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d5f4"/>
                </a:solidFill>
                <a:latin typeface="Arial"/>
              </a:rPr>
              <a:t>Pages 98-102</a:t>
            </a:r>
            <a:endParaRPr b="0" lang="en-US" sz="32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66C8-5ED9-48C7-9C1C-B5F0DD85DC26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Israel’s Sins and Judgment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s 4-12 deal with Israel’s ungodli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truth, mercy, or knowledge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swearing and lying, killing, stealing, committing adultery and drinking new w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broke all re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4 paints a picture that adultery was rampant at thi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olatry was the customary reli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relied upon other nations for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ist of sins goes on an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86E-859E-4E35-B8FF-5EEB2A22F461}" type="slidenum">
              <a:t>10</a:t>
            </a:fld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9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9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Israel’s Sins and Judgment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s 4-12 deal with Israel’s impending judg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hall not dwell in the Lord’s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ill eat unclean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nations will devour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ill be cast away from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ill not have a 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49402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lso the high places of Aven, the sin of Israe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hall be destroy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thorn and thistle shall grow on their alta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y shall say to the mountains, “Cover us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nd to the hills, “Fall on us!”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Hosea 10: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4F1-4A4F-4D8B-9DC3-AC2BCEAEF927}" type="slidenum">
              <a:t>11</a:t>
            </a:fld>
          </a:p>
        </p:txBody>
      </p:sp>
    </p:spTree>
  </p:cSld>
  <p:transition>
    <p:random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9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Seven Principal Steps to Israel’s Downfall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1981080"/>
            <a:ext cx="63244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4617"/>
              </a:gs>
              <a:gs pos="50000">
                <a:srgbClr val="be9932"/>
              </a:gs>
              <a:gs pos="100000">
                <a:srgbClr val="57461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ck of Knowledge (Hosea 4: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895480"/>
            <a:ext cx="63244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3466c"/>
              </a:gs>
              <a:gs pos="50000">
                <a:srgbClr val="2a99ec"/>
              </a:gs>
              <a:gs pos="100000">
                <a:srgbClr val="13466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de (Hosea 5:5 &amp; 7: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09880"/>
            <a:ext cx="63244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3511d"/>
              </a:gs>
              <a:gs pos="50000">
                <a:srgbClr val="70b040"/>
              </a:gs>
              <a:gs pos="100000">
                <a:srgbClr val="3351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ability (Hosea 6:4 &amp;13: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724280"/>
            <a:ext cx="63244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14161"/>
              </a:gs>
              <a:gs pos="50000">
                <a:srgbClr val="6b8ed3"/>
              </a:gs>
              <a:gs pos="100000">
                <a:srgbClr val="31416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ldliness (Hosea 7: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54100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Ephraim has mixed himself among the peoples; Ephraim is a cake unturne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4419720"/>
            <a:ext cx="7315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For your faithfulness is like a morning cloud, And like the early dew it goes awa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Like chaff blown off from a threshing floor And like smoke from a chimney.”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2895480"/>
            <a:ext cx="6324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My people are destroyed for lack of knowled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Because you have rejected knowledge, I also will reject you from being priest to me...”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380916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he pride of Israel testifies to his face...”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086-2791-4B04-8B89-3CE61B6254B3}" type="slidenum">
              <a:t>12</a:t>
            </a:fld>
          </a:p>
        </p:txBody>
      </p:sp>
    </p:spTree>
  </p:cSld>
  <p:transition>
    <p:random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Seven Principal Steps to Israel’s Downfall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1981080"/>
            <a:ext cx="63244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4617"/>
              </a:gs>
              <a:gs pos="50000">
                <a:srgbClr val="be9932"/>
              </a:gs>
              <a:gs pos="100000">
                <a:srgbClr val="57461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ruption (Hosea 9: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895480"/>
            <a:ext cx="63244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3466c"/>
              </a:gs>
              <a:gs pos="50000">
                <a:srgbClr val="2a99ec"/>
              </a:gs>
              <a:gs pos="100000">
                <a:srgbClr val="13466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sliding (Hosea 11: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3809880"/>
            <a:ext cx="63244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3511d"/>
              </a:gs>
              <a:gs pos="50000">
                <a:srgbClr val="70b040"/>
              </a:gs>
              <a:gs pos="100000">
                <a:srgbClr val="3351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olatry (Hosea 13: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80060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Now they sin more and more, and have made for themselves molded images, idols of their silver, according to their skill.”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380988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My people are bent on backsliding from Me.  Though they call to the Most High, None at all exalt Him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89548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hey are deeply corrupted, As in the days of Gibeah.”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50C-F3ED-4528-BF07-37C7137D1A71}" type="slidenum">
              <a:t>13</a:t>
            </a:fld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The Prophet’s Last Plea </a:t>
            </a:r>
            <a:r>
              <a:rPr b="0" lang="en-US" sz="2800" spc="-1" strike="noStrike">
                <a:solidFill>
                  <a:srgbClr val="9cd5f4"/>
                </a:solidFill>
                <a:latin typeface="Verdana"/>
              </a:rPr>
              <a:t>(14:1-9)</a:t>
            </a: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ok does not close without God’s offer of forgiveness.  Israel was guilty before God, yet through repentance could have known resto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350532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O Israel, return to the Lord your God, For you have stumbled because of your iniqu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ake words with you, And return to the Lord.  Say to Him, ‘Take away all iniquity...’” 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Hosea 14:1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3582000"/>
            <a:ext cx="7121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Who is wis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Let him understand these thing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Who is pruden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Let him know th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For the ways of the Lord are right; The righteous walk in them, But transgressors stumble in them.”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Hosea 14: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5720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I will heal their backsliding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  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I will love them freely..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Hosea 14: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C5A-E8ED-465F-8679-1C774A179FDE}" type="slidenum">
              <a:t>14</a:t>
            </a:fld>
          </a:p>
        </p:txBody>
      </p:sp>
    </p:spTree>
  </p:cSld>
  <p:transition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Theme of the Book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faithful Israel to be cast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nations to be called in to punish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 warned to take heed or face the same f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60C-0A1B-47F5-947F-20D9136FE17D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ea prophesied during the latter part of the reign of Jeroboam II and during the last 40 years of the Northern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an his work at the peak of Israel’s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jah, Elisha, Jonah and Amos were earlier prophets sent by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younger contemporary of A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lder contemporary of Isaiah and Mic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7CB-44F9-443B-9C1A-486AB5B37994}" type="slidenum">
              <a:t>3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Hosea’s Marriage </a:t>
            </a:r>
            <a:r>
              <a:rPr b="0" lang="en-US" sz="2800" spc="-1" strike="noStrike">
                <a:solidFill>
                  <a:srgbClr val="9cd5f4"/>
                </a:solidFill>
                <a:latin typeface="Verdana"/>
              </a:rPr>
              <a:t>(1:1-2)</a:t>
            </a:r>
            <a:endParaRPr b="0" lang="en-US" sz="28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gedy of his broken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told him to marry a woman with an idolatrous 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ea took Gomer as his w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ir marriage, she became a har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this marriage God wanted to teach Israel a les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used this actual experience as a living illustration of His love for a wayward Israel and of their unfaithfulness to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A3B-AE59-4119-B9D3-0A8A4028F3A8}" type="slidenum">
              <a:t>4</a:t>
            </a:fld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Hosea’s Three Children </a:t>
            </a:r>
            <a:r>
              <a:rPr b="0" lang="en-US" sz="2800" spc="-1" strike="noStrike">
                <a:solidFill>
                  <a:srgbClr val="9cd5f4"/>
                </a:solidFill>
                <a:latin typeface="Verdana"/>
              </a:rPr>
              <a:t>(1:3-11)</a:t>
            </a:r>
            <a:endParaRPr b="0" lang="en-US" sz="28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child a son “Jezreel”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“God shall scatt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child a daughter “Lo-ruha-mah”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“not (Lo) having obtained mercy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child a son “Lo-Ammi”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“not (Lo) my peopl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hild was not Hosea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said,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Call his name Lo-Ammi, for you are not My people, And I will not be your God”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me reflected the climax of Israel’s f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972-DB9A-4147-B13A-D8476626A9C3}" type="slidenum">
              <a:t>5</a:t>
            </a:fld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Hosea’s Three Children </a:t>
            </a:r>
            <a:r>
              <a:rPr b="0" lang="en-US" sz="2800" spc="-1" strike="noStrike">
                <a:solidFill>
                  <a:srgbClr val="9cd5f4"/>
                </a:solidFill>
                <a:latin typeface="Verdana"/>
              </a:rPr>
              <a:t>(1:3-11)</a:t>
            </a:r>
            <a:endParaRPr b="0" lang="en-US" sz="28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names also used as a symbol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uture resto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the play on words in the following ver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ses 10-11 refer to the future rest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s of the living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united under a new le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:1 uses their names without the “not” or “L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y is sh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1EC-351D-4DEA-8FFF-6EB78EBC41BE}" type="slidenum">
              <a:t>6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God’s Unfaithful Nation </a:t>
            </a:r>
            <a:r>
              <a:rPr b="0" lang="en-US" sz="2800" spc="-1" strike="noStrike">
                <a:solidFill>
                  <a:srgbClr val="9cd5f4"/>
                </a:solidFill>
                <a:latin typeface="Verdana"/>
              </a:rPr>
              <a:t>(2:2-23)</a:t>
            </a:r>
            <a:endParaRPr b="0" lang="en-US" sz="28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parison between Gomer and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would be a disg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sought new lovers in the Baal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had corrupted the feast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would be pun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3352680"/>
            <a:ext cx="6324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he will chase her lover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But not overtake th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Yes, she will seek them, but not find 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n she will sa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‘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I will go and return to my first husba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For then it was better for me than now.’”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(Hosea 2: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419112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”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I will also cause all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er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mirth to ceas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er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feast day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er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New Moo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er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abbaths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ll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er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appointed feasts.”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(Hosea 2:1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304812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will not have mercy on her childr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 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 they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he children of harlo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 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 their mother has played the harlo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 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e who conceived them has behaved shamefu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 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 she said, ‘I will go after my lover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 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o give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y bread and my wate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 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y wool and my lin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 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y oil and my drink.’”  (Hosea 2:4-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114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I will punish her...”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(Hosea 2: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CB18-86C0-4967-9EEA-5DF9C7F2E837}" type="slidenum">
              <a:t>7</a:t>
            </a:fld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God’s Unfaithful Nation </a:t>
            </a:r>
            <a:r>
              <a:rPr b="0" lang="en-US" sz="2800" spc="-1" strike="noStrike">
                <a:solidFill>
                  <a:srgbClr val="9cd5f4"/>
                </a:solidFill>
                <a:latin typeface="Verdana"/>
              </a:rPr>
              <a:t>(2:2-23)</a:t>
            </a:r>
            <a:endParaRPr b="0" lang="en-US" sz="28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’s mer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would lure her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, she will be purged of her wickedn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97180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“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refore, behold, I will allure he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ill bring her into the wildernes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nd speak comfort to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I will give her her vineyards from 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nd the Valley of Achor as a door of hope...” 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Hosea 2:1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3657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For I will take from her mouth the names of the Baal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nd they shall be remembered by their name no more.”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Hosea 2: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88F-38CB-4A80-8B0F-87CD963A36D8}" type="slidenum">
              <a:t>8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Israel Will Return To God </a:t>
            </a:r>
            <a:r>
              <a:rPr b="0" lang="en-US" sz="2800" spc="-1" strike="noStrike">
                <a:solidFill>
                  <a:srgbClr val="9cd5f4"/>
                </a:solidFill>
                <a:latin typeface="Verdana"/>
              </a:rPr>
              <a:t>(3:1-5)</a:t>
            </a:r>
            <a:endParaRPr b="0" lang="en-US" sz="28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ea told to go to his estranged wife, to love her and bring her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deemed her, she would prove herself many days with abstin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wise, Israel would be purged of wickedness and then returned to the Lord with a new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325-76C7-48CD-A8A9-776C320A96F6}" type="slidenum">
              <a:t>9</a:t>
            </a:fld>
          </a:p>
        </p:txBody>
      </p: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3:00:56Z</dcterms:created>
  <dc:creator>Frank D Vines</dc:creator>
  <dc:description/>
  <dc:language>en-US</dc:language>
  <cp:lastModifiedBy>Frank D Vines</cp:lastModifiedBy>
  <dcterms:modified xsi:type="dcterms:W3CDTF">2006-01-18T20:47:30Z</dcterms:modified>
  <cp:revision>16</cp:revision>
  <dc:subject/>
  <dc:title>The Book of Hose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51033</vt:lpwstr>
  </property>
</Properties>
</file>